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0C77A-EF34-4D82-A130-360786310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F0879-078C-47FC-ADBD-240CEE15C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15E7-6B1F-400A-A0E5-E56EFCADB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B95B-4F35-437B-922F-C3C11360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5D19-AC0E-4F9D-97C2-74E0B0100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E656-9EFA-4A2A-B839-C60BA2658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0496-85AE-4467-87B8-E1C07C0D7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E7DF-6B47-45FC-8932-401D517EF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A323-1401-4AE9-9953-5DE54E9D0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A1A4-464D-4D2D-9643-32538083D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3136-9500-409E-B118-4C2F6578B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49B4-420B-48D3-A40C-17689AD0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7EEE-9754-4D46-913E-085589CE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415B-F736-4928-B637-8BDF6921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C693E-79C4-45E2-9E3C-01E2A3944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228600" y="1295280"/>
            <a:ext cx="861048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ayra Quiñón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Mayra Quiñónez 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Mayra Quiñónez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Mayra Quiñónez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05120" y="1752480"/>
            <a:ext cx="49528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Buenos días ¿Cómo están todos?  Yo estoy muy feliz porque el día esta muy bonito ¿ Qué van hacer hoy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1981080" y="152388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724280"/>
            <a:ext cx="167652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4864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00200" cy="8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 mi nombre es Mayra. Vivo en Astoria, New York con mis dos hermanas y con mi hermano. Tengo catorce años. Yo soy alta pero soy calmada y penosa también. Mi familia es muy importante para mi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28520" y="5102280"/>
            <a:ext cx="657360" cy="94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17560" y="5102280"/>
            <a:ext cx="554040" cy="7920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4864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28520" y="5711760"/>
            <a:ext cx="554040" cy="79236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27040" y="5102280"/>
            <a:ext cx="451080" cy="94464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486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09960" y="2511360"/>
            <a:ext cx="480960" cy="944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09960" y="3273480"/>
            <a:ext cx="577800" cy="834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09960" y="3803760"/>
            <a:ext cx="480960" cy="9507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quiero ir a ver una película de acción por que yo estoy muy cansad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5029200" cy="5331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Que tal. ¿ Cuál película quieres ir a ver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.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36880" y="4492800"/>
            <a:ext cx="650880" cy="9442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estoy bien y si el día esta muy bonito  ¿ Quieren ir a ver una películ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sta : Co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 Cuántas mascotas tienen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109960" y="5175360"/>
            <a:ext cx="480960" cy="9507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518184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Yo no tengo mascotas pero mi abuela tiene un gato. Mis abuelos son muy divertidos y ellos ama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 los animales.¿ Y tu tienes hermano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2036880" y="6016680"/>
            <a:ext cx="650880" cy="944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5791320"/>
            <a:ext cx="5105520" cy="9144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no tengo hermanos soy hija única. Yo estoy triste por qué soy hija única. Pero soy feliz por qué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tu eres mi amiga y por qué amo a mis padres y por qué ellos me aman también. ¿ Tus papas está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Trabajando?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sta: Comentario 5 sec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74320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71500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609588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14:21:36Z</dcterms:created>
  <dc:creator>FriscoISD</dc:creator>
  <dc:description/>
  <dc:language>en-US</dc:language>
  <cp:lastModifiedBy>NYCDOE</cp:lastModifiedBy>
  <dcterms:modified xsi:type="dcterms:W3CDTF">2012-12-07T14:57:57Z</dcterms:modified>
  <cp:revision>109</cp:revision>
  <dc:subject/>
  <dc:title>Profile</dc:title>
</cp:coreProperties>
</file>